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86B-C4FB-42A2-A871-3D63CF7A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4A0A-77F0-4EEA-B786-2A5ADA7C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D97-6E13-4E03-98DE-5A06C7F1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BC6-2E98-4055-BC87-B9740F99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77A-8339-4EAE-9E9E-7A70C3EC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456-E95D-493B-B338-5646EF78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2369-A623-46B4-BF18-784C697D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417-EC30-4768-A40E-BD07B289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D9A-DF67-4D98-BF13-73258FAB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855-C879-43AA-9C54-D7662F6D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F98-5C28-46A7-9E0C-ED097994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75F6-DEE4-476E-AB72-6A5EEE39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4D42-A966-4BDB-B357-1CF3578E9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460" t="17173" r="49221" b="9549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50816" t="17173" r="2424" b="13913"/>
          <a:stretch/>
        </p:blipFill>
        <p:spPr>
          <a:xfrm>
            <a:off x="4572000" y="0"/>
            <a:ext cx="4572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33601" t="11698" r="17198" b="11720"/>
          <a:stretch/>
        </p:blipFill>
        <p:spPr>
          <a:xfrm>
            <a:off x="0" y="0"/>
            <a:ext cx="5159520" cy="6021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49188" t="18277" r="18010" b="16112"/>
          <a:stretch/>
        </p:blipFill>
        <p:spPr>
          <a:xfrm>
            <a:off x="5003640" y="620640"/>
            <a:ext cx="37926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1:09:02Z</dcterms:created>
  <dc:creator>FERNANDO RUANO</dc:creator>
  <dc:description/>
  <dc:language>en-US</dc:language>
  <cp:lastModifiedBy>FERNANDO RUANO</cp:lastModifiedBy>
  <dcterms:modified xsi:type="dcterms:W3CDTF">2011-05-31T11:20:15Z</dcterms:modified>
  <cp:revision>2</cp:revision>
  <dc:subject/>
  <dc:title>Diapositiva 1</dc:title>
</cp:coreProperties>
</file>