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64FC-9575-4FEA-BA19-96307013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6A6-EAE9-4AF2-AAA8-46B5D700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2F45-9095-438D-B33A-E177AC3B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EC8C-7F63-4422-A7D5-F81EE197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9962-8811-4A9E-B5CF-C4A9E29C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EF0-91B0-40CB-B401-52CEF1D4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6338-B41A-4220-BF8C-B30F0B70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0D2A-7388-405B-B3D5-ACF32E85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7880-35EB-4A17-B33E-FA9FFD95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0B9E-5E46-477E-9DD3-96867123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2723-42AD-40EF-A500-60AE37C8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2EE4-3779-419D-8C72-A1F274EE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18C1-F2BD-4DA1-8D74-75B557899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460" t="17173" r="49221" b="9549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rcRect l="50816" t="17173" r="2424" b="13913"/>
          <a:stretch/>
        </p:blipFill>
        <p:spPr>
          <a:xfrm>
            <a:off x="4572000" y="0"/>
            <a:ext cx="4572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33601" t="11698" r="17198" b="11720"/>
          <a:stretch/>
        </p:blipFill>
        <p:spPr>
          <a:xfrm>
            <a:off x="0" y="0"/>
            <a:ext cx="5159520" cy="6021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49188" t="18277" r="18010" b="16112"/>
          <a:stretch/>
        </p:blipFill>
        <p:spPr>
          <a:xfrm>
            <a:off x="5003640" y="620640"/>
            <a:ext cx="37926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1:09:02Z</dcterms:created>
  <dc:creator>FERNANDO RUANO</dc:creator>
  <dc:description/>
  <dc:language>en-US</dc:language>
  <cp:lastModifiedBy>FERNANDO RUANO</cp:lastModifiedBy>
  <dcterms:modified xsi:type="dcterms:W3CDTF">2011-05-31T11:20:15Z</dcterms:modified>
  <cp:revision>2</cp:revision>
  <dc:subject/>
  <dc:title>Diapositiva 1</dc:title>
</cp:coreProperties>
</file>